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174-6B71-44F9-BED2-A7FDE42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219-25B1-4714-B5EA-8D96630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ED5-346A-40E7-8C2E-6430A40E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749-5663-4D68-B7EC-A4CA4238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665-C6D1-42D5-905B-4191AB1A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60E-6AC6-4343-951C-6B6F46E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63F-3968-4D04-AC9A-5A64619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3D3-5EEA-4168-8DA8-8A208B3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423-D845-4525-9E54-314849A0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E54-5B14-46B3-A424-5DF64BF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2BB-BFF8-4677-92EA-6060920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4A8-161C-4EA8-8F12-538CE0B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4ECC-4371-49A2-B286-4A1BAAED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68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Top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8763120" cy="1524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The American D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48120"/>
            <a:ext cx="76964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a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on h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ur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ern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kind of lesson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:  What is Chaplin’s take on his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:  Could this film be relevant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creation was ‘many-sided,’ Chaplin said, ‘a tramp, a gentleman, a poet, a dreamer, a lonely fellow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ways hope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mance and adventure…not above picking up cigarette butts or robbing a baby of its candy.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ightens 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nse of survi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eserves our sanity…because of humor we are less overwhelmed by the vicissitudes of life.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amatized how today’s working man too easily becomes tomorrow’s homeless tramp, the opening concept in Modern Tim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57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28600" y="5486400"/>
            <a:ext cx="5257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ck up–never say die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04920"/>
            <a:ext cx="7848720" cy="21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5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was wrong to kill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room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Man in the atomic ag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shoutmouth.com/index.php/news/212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Dream’s transition throug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343400" cy="566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rn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arf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’s A Wonderful Li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ma 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ll Stre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cial Network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255200">
            <a:off x="4114440" y="53316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815" t="0" r="28172" b="0"/>
          <a:stretch/>
        </p:blipFill>
        <p:spPr>
          <a:xfrm>
            <a:off x="6095880" y="0"/>
            <a:ext cx="2560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5029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“Tramp” play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lie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05120"/>
            <a:ext cx="48765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og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istory of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the Tr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066680"/>
            <a:ext cx="266724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ok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066680"/>
            <a:ext cx="266688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066680"/>
            <a:ext cx="266688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mboliz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228600"/>
            <a:ext cx="5029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 Contra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9815" t="0" r="28172" b="0"/>
          <a:stretch/>
        </p:blipFill>
        <p:spPr>
          <a:xfrm>
            <a:off x="457200" y="0"/>
            <a:ext cx="2560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114300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aggy 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Too Tight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752480"/>
            <a:ext cx="2133720" cy="53352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1828800"/>
            <a:ext cx="2057400" cy="99072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04812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i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Little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514600" y="609120"/>
            <a:ext cx="2286000" cy="342900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19520" y="3657600"/>
            <a:ext cx="2133360" cy="243828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5029200"/>
            <a:ext cx="53337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ork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Trying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Hig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311720" cy="6248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457200"/>
            <a:ext cx="39621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Modern Times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-1936-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743200"/>
            <a:ext cx="43434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is th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ne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k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spell trag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row it out of wor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lie_chaplin" descr=""/>
          <p:cNvPicPr/>
          <p:nvPr/>
        </p:nvPicPr>
        <p:blipFill>
          <a:blip r:embed="rId1"/>
          <a:srcRect l="20479" t="0" r="24935" b="0"/>
          <a:stretch/>
        </p:blipFill>
        <p:spPr>
          <a:xfrm>
            <a:off x="304920" y="76212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228600"/>
            <a:ext cx="7315200" cy="6324480"/>
          </a:xfrm>
          <a:prstGeom prst="rect">
            <a:avLst/>
          </a:prstGeom>
          <a:solidFill>
            <a:srgbClr val="ffffff">
              <a:alpha val="81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lin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 In the factory scene: What did the         Billow’s Machin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 What does the Tramp and the Minister’s wife have in 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 Name one job you saw Chaplin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 Name one other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)  At first, why does the Tramp try to go back to j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mp (Little Fell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lin’s character 1915-1930s was called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r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, in society, does the Tramp re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s the Tramp a put-dow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mp (Little Fell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mp = survives because of his/her wh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consistentl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other ex:  Lady and the Tr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bos=  “transient worker”, travels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s = do not look for work, do not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http://empax.org/wp-content/uploads/2009/02/hobos.jpg"/>
          <p:cNvPicPr/>
          <p:nvPr/>
        </p:nvPicPr>
        <p:blipFill>
          <a:blip r:embed="rId1"/>
          <a:stretch/>
        </p:blipFill>
        <p:spPr>
          <a:xfrm>
            <a:off x="304920" y="152280"/>
            <a:ext cx="3541680" cy="495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311472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4996" t="11376" r="52510" b="0"/>
          <a:stretch/>
        </p:blipFill>
        <p:spPr>
          <a:xfrm>
            <a:off x="6781680" y="228600"/>
            <a:ext cx="1738440" cy="4781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19815" t="0" r="28172" b="0"/>
          <a:stretch/>
        </p:blipFill>
        <p:spPr>
          <a:xfrm>
            <a:off x="5486400" y="2362320"/>
            <a:ext cx="16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9:31:43Z</dcterms:created>
  <dc:creator>IT Department</dc:creator>
  <dc:description/>
  <dc:language>en-US</dc:language>
  <cp:lastModifiedBy>IT Department</cp:lastModifiedBy>
  <dcterms:modified xsi:type="dcterms:W3CDTF">2012-02-14T14:38:30Z</dcterms:modified>
  <cp:revision>24</cp:revision>
  <dc:subject/>
  <dc:title>Slide 1</dc:title>
</cp:coreProperties>
</file>